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CADB-3314-4B96-95E4-784697C8E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19C4-2D1F-4509-991E-7CDF69295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3058-2AAB-4562-A066-60E706479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EFDF-EDD0-4C39-A32E-DC0F813B6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7594-1F02-48F7-BE70-A331DA36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64FA-1EB8-4FBB-8BFA-1AA60D8E6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0A8-FAA8-4C6A-BF43-730A31DB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7728-661D-4AD6-BCC8-9227AF9EE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6158027D-8EB4-4E74-9A11-C76F16944440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951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951520"/>
            <a:ext cx="9144000" cy="90648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0B8C9D2-024E-4EFB-88D0-EEBA0D9F9898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88A86C1-13B4-4522-847E-D00F23CA7A9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89000" y="5240160"/>
            <a:ext cx="876600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90:  Delivering a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livering a Presentati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livering a presentation, you can use Slide Notes to aide you in your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Notes can be printed like note cards so that it doesn’t disrupt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9C0CA57-25C7-41E2-938C-20823D46265B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Not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599840"/>
            <a:ext cx="76960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s do not display during slidesh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t Notes pages for handou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add notes in the Notes pane in Normal 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format not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2F17CE0D-4600-4289-A74E-B61F063546A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23880" y="3903840"/>
            <a:ext cx="5591160" cy="2352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4923000" y="3124080"/>
            <a:ext cx="4221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esentation Tip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A1948D2-ECCF-4E5D-8051-2100A9FC5D0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C:\Documents and Settings\Jean Bissell-Privett\Local Settings\Temporary Internet Files\Content.IE5\B84JFXV6\MCj00787100000[1].wmf"/>
          <p:cNvPicPr/>
          <p:nvPr/>
        </p:nvPicPr>
        <p:blipFill>
          <a:blip r:embed="rId1"/>
          <a:stretch/>
        </p:blipFill>
        <p:spPr>
          <a:xfrm>
            <a:off x="6675480" y="628560"/>
            <a:ext cx="2346120" cy="2913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18960" y="1600200"/>
            <a:ext cx="839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now your message: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s allows you to talk with the audience rather than read to 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ook at the audience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ake eye contact with one person briefly (2-3 seconds) then move on to another pers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now how to use the visuals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Practice using the visual aids you have chosen for the presentation. Glance at each visual as you display it, then focus on your aud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59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Presentation Tip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3B21560-4094-4874-8340-7F851F225BD1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C:\Documents and Settings\Jean Bissell-Privett\Local Settings\Temporary Internet Files\Content.IE5\B84JFXV6\MCj00787100000[1].wmf"/>
          <p:cNvPicPr/>
          <p:nvPr/>
        </p:nvPicPr>
        <p:blipFill>
          <a:blip r:embed="rId1"/>
          <a:stretch/>
        </p:blipFill>
        <p:spPr>
          <a:xfrm>
            <a:off x="146160" y="304920"/>
            <a:ext cx="2347920" cy="2919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06080" y="1566720"/>
            <a:ext cx="8280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ry the volume and rate at which you speak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Slow down to emphasize points. Speed up on points you know are familiar to aud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ok confiden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Show that you want to communicate with audience &amp; stand tal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t your personality come through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Be natural; Show enthusiasm for topic you are prese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 gestures and facial express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mile, frown, or puzzled look, when appropriate, can help communicate your message. Make sure gestures are natu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nimati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otion, sound, entrance,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 transitions between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from Transition to This Slide group on Animations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 objects on a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imation from Animate list (Animations group on Animations t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3EC40FC-D61F-4AB4-A9D5-C176FD7B85E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nimations Ribbon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90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00C79A6B-5E7F-4F72-8A41-766B00AD1172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15920" y="3286080"/>
            <a:ext cx="8926560" cy="8571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493560" y="1698480"/>
            <a:ext cx="373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text enters, exits, or adds emphasis your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4789440" y="1698480"/>
            <a:ext cx="39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ptions, if available on the animation you c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493560" y="435456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 Pane: shows all animations made on side of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: allows you to “trigger” with mouse click or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Group allows you to self-pace your slide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8"/>
          <p:cNvCxnSpPr/>
          <p:nvPr/>
        </p:nvCxnSpPr>
        <p:spPr>
          <a:xfrm flipH="1">
            <a:off x="2872800" y="2540160"/>
            <a:ext cx="146520" cy="1002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0" name="Straight Arrow Connector 11"/>
          <p:cNvCxnSpPr/>
          <p:nvPr/>
        </p:nvCxnSpPr>
        <p:spPr>
          <a:xfrm flipV="1">
            <a:off x="7757640" y="4142880"/>
            <a:ext cx="1080" cy="1735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1" name="Straight Arrow Connector 12"/>
          <p:cNvCxnSpPr/>
          <p:nvPr/>
        </p:nvCxnSpPr>
        <p:spPr>
          <a:xfrm flipH="1" flipV="1">
            <a:off x="6784200" y="3714480"/>
            <a:ext cx="175320" cy="1467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Straight Arrow Connector 13"/>
          <p:cNvCxnSpPr/>
          <p:nvPr/>
        </p:nvCxnSpPr>
        <p:spPr>
          <a:xfrm flipV="1">
            <a:off x="5920920" y="3693600"/>
            <a:ext cx="305640" cy="718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3" name="Straight Arrow Connector 14"/>
          <p:cNvCxnSpPr/>
          <p:nvPr/>
        </p:nvCxnSpPr>
        <p:spPr>
          <a:xfrm flipH="1">
            <a:off x="5485680" y="2836800"/>
            <a:ext cx="740520" cy="705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4-06T04:06:38Z</dcterms:modified>
  <cp:revision>24</cp:revision>
  <dc:subject/>
  <dc:title>Slide 1</dc:title>
</cp:coreProperties>
</file>